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7960-E7C0-4C1D-A5D9-CBE90F988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FB4F-1529-4B94-AC73-2A2A9214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DA31-849C-4B25-9F17-902F23AC6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2623-CDDF-430D-A1B4-F9D4926A2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8015-2951-4BE2-9D2D-F67A84E5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104D-0E19-4CC2-B957-3E06FC32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36C5-CA10-4600-8134-7E77947B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2179-9BA8-4705-B652-1A51B6D1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525C-D4BF-49E1-8E59-9D5DE7C3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0E01-A75A-4583-9E07-3D9924FD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608C-6BAB-4AB8-98AA-BE92BDF4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1389-8719-407A-9D06-77AC4D74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2C3C-2B37-412B-AF5A-E8C1EC17A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How Muc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ut what if I don’t want twelve of someth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267080"/>
            <a:ext cx="2203560" cy="2362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5880" y="0"/>
            <a:ext cx="3048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ten in life, we see things for sale in quantities that are not practical for u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4329000"/>
            <a:ext cx="8534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Example:  At a local store, corn on the cob is $4.99 per dozen.  We live alone and know that we do not want or need 12 cobs of corn.  We only want three.  How much will three co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266724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69920" y="1828800"/>
            <a:ext cx="680400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First step is set up a ratio.  For $4.99, we get 12 cobs of co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808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a local store, corn on the cob is $4.99 per dozen.  We live alone and know that we do not want or need 12 cobs of corn.  We only want three.  How much will three c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44800" y="266688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4.9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0440" y="2627280"/>
            <a:ext cx="591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a note of what each term represents over the rat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M – Mon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C - Co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04920" y="23986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14760" y="2398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39720" y="369396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rite as a fr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219320" y="3429000"/>
                <a:ext cx="7538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611280" y="3429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5440" y="3998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36840" y="4303800"/>
            <a:ext cx="5349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an equivalent fraction, with only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3 cobs of co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member, it’s VERY important that you put it where the corn is in the first fr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l-G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ϰ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epresent the new cost of the co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995400" y="4800600"/>
                <a:ext cx="10508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286000" y="4724280"/>
                <a:ext cx="37296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534960" y="48769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5320" y="5410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480" y="5827680"/>
            <a:ext cx="27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ross Multiply as U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5943600"/>
            <a:ext cx="542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ember that we are dealing with money, you must round off to the nearest hundred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04920" y="6248520"/>
                <a:ext cx="14475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2059920" y="6172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1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934320" y="2895480"/>
            <a:ext cx="155880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the example, find out the cost of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cobs of c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cobs of c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cobs of  c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cobs of c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cobs of c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cobs of c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cob of c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361764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work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go into a hardware store to buy some bolts you need to fix your door.  The price is $14.95 for 50.  You only require 15.  How much will they cost? (Remember this is money, so you have to round off to the nearest hundredth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70572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 rot="1605000">
            <a:off x="7086240" y="4250880"/>
            <a:ext cx="127800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$75  and want to buy as many bolts as you can.  Remember they are $14.95 for 50.  How many bolts can you buy with the money you have?  (Remember that you cannot buy part of a bolt so round off to the nearest whole number that you can afford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work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62940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 rot="1605000">
            <a:off x="7391160" y="4495680"/>
            <a:ext cx="1158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 costs $1.09 per (for one) litre.  How much gas can you buy if you have $30.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work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781680" y="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04920" y="3809880"/>
            <a:ext cx="2666880" cy="24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4T13:49:14Z</dcterms:created>
  <dc:creator>admin</dc:creator>
  <dc:description/>
  <dc:language>en-US</dc:language>
  <cp:lastModifiedBy>admin</cp:lastModifiedBy>
  <dcterms:modified xsi:type="dcterms:W3CDTF">2007-11-26T10:49:17Z</dcterms:modified>
  <cp:revision>7</cp:revision>
  <dc:subject/>
  <dc:title>How Much?</dc:title>
</cp:coreProperties>
</file>